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76544"/>
        <c:axId val="99706846"/>
      </c:barChart>
      <c:catAx>
        <c:axId val="296765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06846"/>
        <c:crosses val="autoZero"/>
        <c:auto val="1"/>
        <c:lblAlgn val="ctr"/>
        <c:lblOffset val="100"/>
        <c:noMultiLvlLbl val="0"/>
      </c:catAx>
      <c:valAx>
        <c:axId val="997068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765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E3C-ECBB-4B08-8D23-5F3B0AA3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6EF9-CCB1-4540-A5B5-660F6949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5D5-12CD-4BE8-A8EF-409BAB5F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8D2-AAAE-4A6B-8078-3CED4B95E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FE1-80E7-47EE-9836-2065CE10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9FE-AE4F-4627-8C89-DC52FEEB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578-A84D-4677-9586-A9333110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30A-6468-4738-A759-A6BA7FE8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BC9-8A89-4F83-B650-A651D085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246E-8DDC-470F-ADB8-90B56F54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482-8251-48B0-93F9-4B16FAE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6E1-7A54-466E-BAB2-C79ED7B9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D72D7-1138-4C87-A11E-FF38C0E450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