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391051"/>
        <c:axId val="45800985"/>
      </c:barChart>
      <c:catAx>
        <c:axId val="32391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00985"/>
        <c:crosses val="autoZero"/>
        <c:auto val="1"/>
        <c:lblAlgn val="ctr"/>
        <c:lblOffset val="100"/>
        <c:noMultiLvlLbl val="0"/>
      </c:catAx>
      <c:valAx>
        <c:axId val="45800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91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2564-CE0D-4BC7-B5BB-D1A81177A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BF3-6508-4297-A119-E5661C8C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15A-9835-4D8E-B116-35945BE6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E75-82E2-4132-9EBB-29B13846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C5B-28A9-478C-A0BE-2F941D6C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2E2-2DC4-4707-BB95-4F8D53C9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B3DF-E8D3-4A22-8DA6-C284BD0B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C7C6-1AB4-4A66-9F37-236BD7DE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A85-23D4-4B43-AFB5-B73AC92D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245-B40E-4DAD-8099-2A887487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DD4-45C6-419C-BCFE-36254BEE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1CEE-3ECC-4E7E-A4B7-1BF7AE3C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519A2-EDB2-49EB-860D-879DB0D763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