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14368"/>
        <c:axId val="25650774"/>
      </c:barChart>
      <c:catAx>
        <c:axId val="40314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50774"/>
        <c:crosses val="autoZero"/>
        <c:auto val="1"/>
        <c:lblAlgn val="ctr"/>
        <c:lblOffset val="100"/>
        <c:noMultiLvlLbl val="0"/>
      </c:catAx>
      <c:valAx>
        <c:axId val="256507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14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BAD-4239-49EC-9D33-7880F291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270-B10D-439A-ABB1-6D2CC24F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27EE-50E1-46A1-9452-33A369123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AD7-C7A9-43EE-A77F-2ED88197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1FB8-704A-4ECD-8027-014B91CE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CC73-62C2-4AF6-96D7-283D1D73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063-8798-4A6A-93B0-A2CCA0A0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2917-6363-46F9-93D8-16BFAB11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D968-BD7B-42B4-B1E2-AC487A00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40E-5454-4EAB-91A5-37BE1BFC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0D09-F336-49D5-B7CC-9874728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8126-FEB1-4D3C-9870-E8D04CE0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74A06-3D8D-41BA-9D82-42CE3FE80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