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97306"/>
        <c:axId val="34456016"/>
      </c:barChart>
      <c:catAx>
        <c:axId val="22997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56016"/>
        <c:crosses val="autoZero"/>
        <c:auto val="1"/>
        <c:lblAlgn val="ctr"/>
        <c:lblOffset val="100"/>
        <c:noMultiLvlLbl val="0"/>
      </c:catAx>
      <c:valAx>
        <c:axId val="34456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97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94F6-B969-4324-A79D-005AA7C4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BF78-79CE-445B-BF01-172664AB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908-D60B-49B4-B116-D9ABCC17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31D-B706-4209-9481-2620C89D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BF1-D680-4E69-9124-4273BF57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751-C34D-448D-ABB7-08AB1982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B17-D3CC-4E9C-B398-8420E6FB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0FF-8479-480D-AFC9-2ACECDEC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384-1D26-4971-B943-7C8008BE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B736-2809-408D-8552-158DA9D0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12A-6302-4BE9-8AF5-6A6DFD31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AF9-4893-4116-968F-EBF40422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821E7-BA6F-4A92-ACA3-3D69392B3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