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71977"/>
        <c:axId val="29968136"/>
      </c:barChart>
      <c:catAx>
        <c:axId val="78371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68136"/>
        <c:crosses val="autoZero"/>
        <c:auto val="1"/>
        <c:lblAlgn val="ctr"/>
        <c:lblOffset val="100"/>
        <c:noMultiLvlLbl val="0"/>
      </c:catAx>
      <c:valAx>
        <c:axId val="29968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71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134-5B7F-4A7E-978F-40DAAE735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3B6-ECFF-4876-8133-39ECB87F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A8F-C557-45EE-8009-FDC18B15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5F2-E638-4D19-B737-21B097E5A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5B9-E8E4-4F20-BFBF-764C5375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921-D6BC-4BCF-935B-4A697722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7BD-E9CD-4639-92BC-BD40DF7A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0DA-6C91-4D1C-9593-D69B19EE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BC5-0C78-4261-AFE8-AB937EA7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E2A-2670-4EB5-A2D3-25DF57E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F22-16A4-471B-87AC-8F23029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F05-A12C-4E89-860B-AB654193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067D5-19C2-41F4-B964-34FA3596A1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