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36959"/>
        <c:axId val="4496744"/>
      </c:barChart>
      <c:catAx>
        <c:axId val="906369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6744"/>
        <c:crosses val="autoZero"/>
        <c:auto val="1"/>
        <c:lblAlgn val="ctr"/>
        <c:lblOffset val="100"/>
        <c:noMultiLvlLbl val="0"/>
      </c:catAx>
      <c:valAx>
        <c:axId val="4496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369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44E-9E3B-4843-80BB-1A1867F8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EF00-8EC4-4905-9449-421764AE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F71-6D2B-4CDD-A980-11515200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844D-952D-426A-A1E9-C8438483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856-3316-4ADA-8F51-A7054F12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CBD-AAFB-4912-AD13-9FFAC798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3B1D-80CA-4D9E-90B3-AF585746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598F-2683-4C28-AAE1-CA554C9C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69D-B3E4-4023-968F-649DD778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8EC-CD15-4D18-9765-D4D53C67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F17-4A52-40D0-8102-9893F7BF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A45-9A64-4188-B92A-ED449777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A1242-B30F-45D7-B1DE-B8B6162724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