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97250"/>
        <c:axId val="37394094"/>
      </c:barChart>
      <c:catAx>
        <c:axId val="94997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94094"/>
        <c:crosses val="autoZero"/>
        <c:auto val="1"/>
        <c:lblAlgn val="ctr"/>
        <c:lblOffset val="100"/>
        <c:noMultiLvlLbl val="0"/>
      </c:catAx>
      <c:valAx>
        <c:axId val="37394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97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6B5-7044-44E4-93B6-35484CC0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0B0-7038-467E-B05D-1801A727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8FD-2457-43AB-909D-A5A82613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3B1-4C41-437E-82E4-26EAB569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64C-F6FA-4D85-AF15-02684716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08E-C6FF-4D3B-B899-F227AAE8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33C-669C-4183-9F2E-F5C02830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6AF-FF48-43E9-AA0C-AB01FBFB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579-B30C-4849-9CE8-3501EAAC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935-1339-43CC-88EF-951E0A8F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4D0-83EB-40A4-9748-E84C7D78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0CF-0F74-4BC4-BE32-F1D90A34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0732F-418F-4378-9C51-C8D5E1B9BA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